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1F77-2554-495F-BC0C-4264B944C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5D73-D17B-4C0D-B5C4-276B19BE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7339-B7D2-46C2-9468-48A7E3EA3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D289-150D-4ABA-A4F9-1CCEEFB35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8008-C9A0-495A-8504-A175C909B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5EA6-E76E-4F9D-9576-512AB3BD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24A7-021A-4FD4-8DD3-21954FDD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ED65-9A39-4A0B-8A45-D9B2D119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5586-253C-45C0-ACE6-CEAA9F8F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1D4E5-B72C-44C8-981E-C545334C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C055-7669-4E65-BCAD-D96A843D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A769-1A9F-4B2E-A4E0-559A15E8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8577-4242-4B27-BE97-576DDBC9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846C-D59D-417E-8221-582D9921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1688-834D-4802-8722-83B6717E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00B2-38E9-4273-8382-A5567B0F0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5A9F4-187B-4A2F-A3FD-227790BA3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F496-D6DD-473F-892C-C08F224D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B387-C916-45B5-AED5-E572660F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BA44-DFC2-476E-8937-319972C3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3096-56F0-4408-B41B-A24D9297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53D3-73F2-4F83-A037-66EA9CAF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BEB0-B3BA-4923-85B5-D74A4B75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2B6D-3053-45BD-B40D-DBEB5BED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B139-5C73-43B0-831B-C412B951C8E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E759-3481-43F3-A2BF-A8E873C8AB94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правление персонал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442200" y="3767040"/>
            <a:ext cx="211752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нятие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fig_strong_leadership"/>
          <p:cNvPicPr/>
          <p:nvPr/>
        </p:nvPicPr>
        <p:blipFill>
          <a:blip r:embed="rId1"/>
          <a:stretch/>
        </p:blipFill>
        <p:spPr>
          <a:xfrm>
            <a:off x="0" y="2509920"/>
            <a:ext cx="648180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333360"/>
            <a:ext cx="5313240" cy="15717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еханический и органический типы организац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99640" y="2707920"/>
            <a:ext cx="8001000" cy="381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еханистический тип организации существует в условиях стабильности рыночной и технологической среды, предсказуемого направления развития деятельности и организаци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рганический тип предполагает наличие высокой степени изменчивости технологической и рыночной среды организации, когда нет жесткой структуры, четкого распределения работ, а существуют механизмы быстрой адаптации к изменениям сред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188640"/>
            <a:ext cx="5313240" cy="1716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еория органических и механических систем</a:t>
            </a:r>
            <a:br>
              <a:rPr sz="3600"/>
            </a:br>
            <a:r>
              <a:rPr b="0" i="1" lang="ru-RU" sz="1600" spc="-1" strike="noStrike">
                <a:solidFill>
                  <a:srgbClr val="006666"/>
                </a:solidFill>
                <a:latin typeface="Arial"/>
              </a:rPr>
              <a:t>Т.Бамс и Дж. Сталкер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rcRect l="0" t="20411" r="28572" b="10203"/>
          <a:stretch/>
        </p:blipFill>
        <p:spPr>
          <a:xfrm>
            <a:off x="228600" y="2282760"/>
            <a:ext cx="8915400" cy="4575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4233960" cy="1644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Жизненный цикл организации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по И.Адизесу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900000" y="2781360"/>
            <a:ext cx="8001000" cy="3733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23640" y="333000"/>
            <a:ext cx="4449960" cy="1500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Этапы развития и кризисы роста организации </a:t>
            </a:r>
            <a:r>
              <a:rPr b="0" i="1" lang="ru-RU" sz="1600" spc="-1" strike="noStrike">
                <a:solidFill>
                  <a:srgbClr val="006666"/>
                </a:solidFill>
                <a:latin typeface="Arial"/>
              </a:rPr>
              <a:t>(по Л. Грейнеру)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8305920" cy="4343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5640" y="907560"/>
            <a:ext cx="5040360" cy="855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тап 1: Творчеств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99640" y="2349000"/>
            <a:ext cx="8001000" cy="424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Основатель (основатели) компании обычно обладают какими-либо техническими или предпринимательскими навыками, умениями, способностями. Они не столько фокусируются на менеджерские функции, сколько на производство и продажу нового «продукта» (услуги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Общение между сотрудниками довольно интенсивно и носит скорее неформальный характер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Долгие часы работы вознаграждаются сравнительно невысокими (средними) зарплатами, в придачу с надеждами или обещаниями будущей выгоды от участия в собственност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Управление деятельностью подчинено имеющимся капитальным ресурсам и характеризуется постоянной связью с соответствующими рыночными нишами. Где только можно — организация быстро реагирует на любые запросы клиент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76000" y="620280"/>
            <a:ext cx="511164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тап 2: Направленный рос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235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аличие функциональной организационной структуры с четко определенными ролями и должностными обязанностям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недрение (или более активное использование) четкой системы учета и отчетности, в особенности, в отношении закупочных материалов, сырья, полуфабрикатов и т.п.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недрение систем мониторинга и контроля, планирования бюджета и вырабатывания стандартов качеств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Коммуникации (формы общения) становятся более формальными и обезличенным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овый менеджер и его/ее ключевые помощники задают направление и берут на себя лидирующие роли, в то время как контролеры более низкого уровня в большей степени выполняют роли функциональных специалист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95640" y="620280"/>
            <a:ext cx="42480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Этап 3: Рост через делегировани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99640" y="2491920"/>
            <a:ext cx="8001000" cy="394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собенности этапа определяется приложениями и возможностями децентрализации организационной структур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енеджеры децентрализованной оргструктуры, обладающие большей властью, способны быстрее отвечать на запросы клиентов, лучше адаптируя к их запросам и развивая свои продукты и качество рабочей сред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озможны кризисы, когда  менеджеры высшего звена начнут ощущать потерю контроля над компанией в целом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92000" y="691920"/>
            <a:ext cx="480996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тап 4: Рост через координацию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6560" y="2707920"/>
            <a:ext cx="8001000" cy="351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недрение и/или серьезный пересмотр формальных процедур планирования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айм (или обучение) специального корпоративного персонала для инициирования программ мониторинга и контроля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Использование процедур тщательного мониторинга капитальных расходов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Функционирование групп разработки новых продуктов как «индивидуальных центров затрат»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Передача прерогатив обработки данных и других подобных технических функций централизованной структуре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Использование возможностей выпуска акций предприятия и участия в его прибылях с целью поощрения и стимулирования развития у сотрудников чувства собственности и своей связи с компанией в цело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11280" y="549000"/>
            <a:ext cx="41040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Этап 5: Рост через сотрудничество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99640" y="2707920"/>
            <a:ext cx="8001000" cy="351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Фокус на решение проблем через командное взаимодействие менеджеров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Команды комбинируются по кроссфункциональному принципу с целью решения конкретной проблемы (внедрение матричных организационных структур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нижение численности корпоративного персонала с его одновременным перераспределением по принципу комбинирования различных функциональных и специальных областей экспертизы. При этом от корпоративного персонала требуется выполнения функций консультирования, а не указывания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недрение программ образования, повышения квалификации и саморазвития с целью совершенствования необходимых навыков и умений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Информационные системы, работающие в режиме реального времени, внедряются в практику повседневной работы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Инновациям и творчеству отдается самый высокий приоритет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5313600" cy="1716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Value Based Management (Ценностно-ориентированное управление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rcRect l="12247" t="32655" r="14283" b="61226"/>
          <a:stretch/>
        </p:blipFill>
        <p:spPr>
          <a:xfrm>
            <a:off x="1042920" y="2924280"/>
            <a:ext cx="7848720" cy="1218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industrializirovannaya%20filosofiya%20upravleniya%20kadrami"/>
          <p:cNvPicPr/>
          <p:nvPr/>
        </p:nvPicPr>
        <p:blipFill>
          <a:blip r:embed="rId3"/>
          <a:stretch/>
        </p:blipFill>
        <p:spPr>
          <a:xfrm>
            <a:off x="1258920" y="4292640"/>
            <a:ext cx="698508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240480" y="331200"/>
            <a:ext cx="7027920" cy="6252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Arial"/>
              </a:rPr>
              <a:t>Управление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Arial"/>
              </a:rPr>
              <a:t>персоналом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Система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.1.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Теория органических и механических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систем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 Организация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1. Обязательные условия существования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2. Характеристики 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3. Внешняя среда 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4.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Внутренняя среда 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5. Механический и органический типы организаций,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6. Жизненный цикл 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7. Этапы развития и кризисы роста организации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1: Творчество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2: Направленный рост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3: Рост через делегирование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4: Рост через координацию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5: Рост через сотрудничество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93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72360" y="260280"/>
            <a:ext cx="2592360" cy="1741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bb29ac710271904ed939a848a3befaf7"/>
          <p:cNvPicPr/>
          <p:nvPr/>
        </p:nvPicPr>
        <p:blipFill>
          <a:blip r:embed="rId2"/>
          <a:stretch/>
        </p:blipFill>
        <p:spPr>
          <a:xfrm>
            <a:off x="7236000" y="2060640"/>
            <a:ext cx="172692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79280" y="260280"/>
            <a:ext cx="4521240" cy="14320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Цепочка создания ценности</a:t>
            </a:r>
            <a:br>
              <a:rPr sz="3200"/>
            </a:br>
            <a:r>
              <a:rPr b="0" i="1" lang="ru-RU" sz="3200" spc="-1" strike="noStrike">
                <a:solidFill>
                  <a:srgbClr val="006666"/>
                </a:solidFill>
                <a:latin typeface="Arial"/>
              </a:rPr>
              <a:t>по М.Портеру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8001000" cy="4114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905440" cy="18684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ь классификации значимости заинтересованных сторон </a:t>
            </a:r>
            <a:r>
              <a:rPr b="0" i="1" lang="ru-RU" sz="1600" spc="-1" strike="noStrike">
                <a:solidFill>
                  <a:srgbClr val="006666"/>
                </a:solidFill>
                <a:latin typeface="Arial"/>
              </a:rPr>
              <a:t>по А.Митчелу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rcRect l="25715" t="28572" r="25715" b="14284"/>
          <a:stretch/>
        </p:blipFill>
        <p:spPr>
          <a:xfrm>
            <a:off x="1403280" y="2565360"/>
            <a:ext cx="7010640" cy="3848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19280" y="404280"/>
            <a:ext cx="4897440" cy="1575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арта заинтересованных сторон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rcRect l="0" t="10167" r="0" b="0"/>
          <a:stretch/>
        </p:blipFill>
        <p:spPr>
          <a:xfrm>
            <a:off x="914400" y="228600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5457960" cy="1500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тержневые компетенции отличаются от компетенций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99640" y="2637000"/>
            <a:ext cx="8001000" cy="3527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рисущи только тем компаниям, показатели которых превосходят  средний уровень, характерный для данной отрасл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тличаются уникальностью и свойственны только одной компани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тличаются сложностью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не поддаются копированию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вязаны с удовлетворением запросов заказчика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пособствуют повышению ценности продукта чаще, компетенци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оявляются в результате особых взаимоотношений с дистрибьюторами и поставщикам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базируются на превосходных умениях и знаниях сотрудников компани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0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560232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ри движущих силы новой экономи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6560" y="2565000"/>
            <a:ext cx="8001000" cy="410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Знания – интеллектуальный капитал  стал стратегическим фактором; набор понятий, используемых людьми для принятия решения, критичны для компании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Перемены – непрерывные, быстрые и сложные  перемены создают неопределенность и сокращают предсказуемость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Глобализация – в научно-технических разработках, технологиях, производстве, торговле, финансах, коммуникациях и информации, которая привела к раскрытию экономик, глобальной гиперконкуренции и взаимозависимости бизнесов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3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92360" y="475920"/>
            <a:ext cx="4681440" cy="1368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Далай Лама о современном мир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42920" y="2361960"/>
            <a:ext cx="7872480" cy="4235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аши дома всё больше, а семьи всё меньше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У нас больше удобств, но меньше времен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Больше ученых степеней, но меньше здравого смысла...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Больше знаний, но меньше способности к трезвому суждению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Больше специалистов, но еще больше пробле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Больше лекарств, но меньше здоровь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ы проделали долгий путь до луны и обратно, но нам сложно перейти улицу, чтоб встретиться с новым соседо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ы создали множество компьютеров для хранения и копирования огромных объёмов информации, но стали меньше общаться друг с друго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ы выиграли в количестве, но проиграли в качестве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Это время быстрого питания, но медленного усвоени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Людей высокого роста, но низкой нравственност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ысоких доходов, но мелочных отношений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Это время, когда так много за окном, но ничего в комнате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1052280"/>
            <a:ext cx="3024000" cy="63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истема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99640" y="2349000"/>
            <a:ext cx="8001000" cy="424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истема – это набор взаимосвязанных и взаимозависимых частей, составленных в таком порядке, который позволяет воспроизвести цело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Уникальной характеристикой при рассмотрении систем являются внутренние отношения частей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Каждая-система характеризуется дифференциацией и  интеграцией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Каждый элемент системы выполняет свои определенные функции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Для того чтобы поддерживать отдельные части в одном организме и формировать завершенное целое, в каждой системе осуществляется интеграция через: координацию уровней иерархии управления, прямое наблюдение, правила, процедуры, курс действи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Picture 7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0000" y="980640"/>
            <a:ext cx="3888000" cy="792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рганизац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565360"/>
            <a:ext cx="8001000" cy="2362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рганизация — это сознательное объединение людей, деятельность которых планомерно координируется для достижения общей для всех цели или системы целе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industrializirovannaya%20filosofiya%20upravleniya%20kadrami"/>
          <p:cNvPicPr/>
          <p:nvPr/>
        </p:nvPicPr>
        <p:blipFill>
          <a:blip r:embed="rId2"/>
          <a:stretch/>
        </p:blipFill>
        <p:spPr>
          <a:xfrm>
            <a:off x="1258920" y="4941720"/>
            <a:ext cx="698508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404640"/>
            <a:ext cx="5962680" cy="1500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бязательные условия существования организац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99640" y="2781360"/>
            <a:ext cx="800100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личие двух или более людей, которые считают себя группо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личие одного или нескольких ориентиров, к которым стремятся все члены групп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личие членов группы, которые мобилизуют, координируют, направляют деятельность других, чтобы достичь единой для всех цел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55164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63640" y="691920"/>
            <a:ext cx="410544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Характеристики организ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2349000"/>
            <a:ext cx="8001000" cy="251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целевое назначе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равовой стату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истема внутреннего взаимодействия и система взаимоотношений с внешней средо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industrializirovannaya%20filosofiya%20upravleniya%20kadrami"/>
          <p:cNvPicPr/>
          <p:nvPr/>
        </p:nvPicPr>
        <p:blipFill>
          <a:blip r:embed="rId2"/>
          <a:stretch/>
        </p:blipFill>
        <p:spPr>
          <a:xfrm>
            <a:off x="1258920" y="4941720"/>
            <a:ext cx="698508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50976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нешняя среда организ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8001000" cy="4248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496728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нутренняя среда организ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8001000" cy="4248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3T12:03:25Z</dcterms:created>
  <dc:creator>Администратор</dc:creator>
  <dc:description/>
  <dc:language>en-US</dc:language>
  <cp:lastModifiedBy>Людмила</cp:lastModifiedBy>
  <dcterms:modified xsi:type="dcterms:W3CDTF">2017-08-21T07:34:11Z</dcterms:modified>
  <cp:revision>12</cp:revision>
  <dc:subject/>
  <dc:title>Основы управления персоналом</dc:title>
</cp:coreProperties>
</file>